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jpeg" ContentType="image/jpeg"/>
  <Override PartName="/ppt/media/image13.wmf" ContentType="image/x-wmf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oh_yeah.wav" ContentType="audio/x-wav"/>
  <Override PartName="/ppt/media/this_is_the_end_x.wav" ContentType="audio/x-wav"/>
  <Override PartName="/ppt/media/image7.gif" ContentType="image/gif"/>
  <Override PartName="/ppt/media/applause.wav" ContentType="audio/x-wav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5CF-5251-4006-8D28-2017F42C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240-10CB-41AD-91C6-159C1367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D08-3CA8-4366-97AE-6C36462E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D56-3D9C-4806-9E34-B7F8F319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1BC1-B9FB-4103-B9D7-3CDB09CB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9AD7-96EF-4062-9E24-DD0514AD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22CA-C96F-41FC-8E12-17D568C2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B010-A086-4903-B145-EE2C5BE3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9482-03E7-483A-9DFD-7DCFE131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90DB-58BE-45DE-910E-02142EB6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B3E8-004A-40BD-899E-C9F3C1EE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26A-6DAF-49AF-8B60-8772FD2C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9875-3ECA-4F4A-8D26-0C61C455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AC09-E2D9-418A-8E7B-11675B08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D89E-5C7F-4567-A3F5-DE56744C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271B-8864-40E2-ADE4-7B44E095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23B2-8D77-4060-8ECA-20DEC84B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9E8-A142-42F4-A61A-A97FA24C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B6F-A8FC-4CA6-9235-9E355BCF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F28-75FA-46C1-8029-1FC07248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B7A-CEC8-42D7-8209-4FB8434D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F45-1809-4940-AFAB-21B3E118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E3A-044F-4E32-A26D-B7C5629B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053-A7A6-4319-A6A8-3AD4587B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8323-984E-4094-A145-F511EEEEF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7567-60DE-4067-819F-5CAA88871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file:///tmp/home/.config/libreoffice/4/user/gallery/oh_yeah.wav" TargetMode="External"/><Relationship Id="rId3" Type="http://schemas.microsoft.com/office/2007/relationships/media" Target="file:///tmp/home/.config/libreoffice/4/user/gallery/oh_yeah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SN00047A.wav" TargetMode="External"/><Relationship Id="rId3" Type="http://schemas.microsoft.com/office/2007/relationships/media" Target="file:///tmp/home/.config/libreoffice/4/user/gallery/SN00047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his_is_the_end_x.wav" TargetMode="External"/><Relationship Id="rId2" Type="http://schemas.microsoft.com/office/2007/relationships/media" Target="file:///tmp/home/.config/libreoffice/4/user/gallery/this_is_the_end_x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oh_yea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this_is_the_end_x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600200" y="533520"/>
            <a:ext cx="6553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t's A Mystery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91" name="Picture 3" descr="C:\images and sounds\people\detectiv2.gif"/>
          <p:cNvPicPr/>
          <p:nvPr/>
        </p:nvPicPr>
        <p:blipFill>
          <a:blip r:embed="rId3"/>
          <a:stretch/>
        </p:blipFill>
        <p:spPr>
          <a:xfrm>
            <a:off x="3048120" y="3276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057400" y="266688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663300"/>
                </a:solidFill>
                <a:uFillTx/>
                <a:latin typeface="Times New Roman"/>
              </a:rPr>
              <a:t>Drawing Conclus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143000" y="1600200"/>
            <a:ext cx="73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When you draw a conclusion you        use 2 thing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09680" y="28954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What you know in 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1911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133720" y="42670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What you’ve read in the stor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219320" y="5181480"/>
            <a:ext cx="7238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mic Sans MS"/>
              </a:rPr>
              <a:t>A conclusion is the decision you come to when you put these two together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1219320" y="533520"/>
            <a:ext cx="67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Drawing Conclusions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-838080" y="1905120"/>
            <a:ext cx="81532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sleep in a cri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drink from a bo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cannot walk or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o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952880" y="1981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sleep in cri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105520" y="2666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drink bott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181480" y="350532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can’t do these things y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4956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ust be a bab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C:\Documents and Settings\Melissa  Caro\Application Data\Microsoft\Media Catalog\Downloaded Clips\cl92\j0365298.gif"/>
          <p:cNvPicPr/>
          <p:nvPr/>
        </p:nvPicPr>
        <p:blipFill>
          <a:blip r:embed="rId1"/>
          <a:stretch/>
        </p:blipFill>
        <p:spPr>
          <a:xfrm>
            <a:off x="6172200" y="4038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150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0"/>
          <p:cNvSpPr txBox="1"/>
          <p:nvPr/>
        </p:nvSpPr>
        <p:spPr>
          <a:xfrm>
            <a:off x="1447920" y="457200"/>
            <a:ext cx="4190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or Example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99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838080" y="1676520"/>
            <a:ext cx="541044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ut me on your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will keep you         warm and d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ear me when it rai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952880" y="21337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you wear socks and shoes on your f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876920" y="30481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Both of these keep you warm, but only shoes keep you d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143000" y="45720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do you wear, on your     feet, when it rai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1219320" y="5257800"/>
            <a:ext cx="4038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inboot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8" descr="C:\Documents and Settings\Melissa  Caro\Application Data\Microsoft\Media Catalog\Downloaded Clips\cl0\AG00501_.gif"/>
          <p:cNvPicPr/>
          <p:nvPr/>
        </p:nvPicPr>
        <p:blipFill>
          <a:blip r:embed="rId1"/>
          <a:stretch/>
        </p:blipFill>
        <p:spPr>
          <a:xfrm>
            <a:off x="5486400" y="3505320"/>
            <a:ext cx="3352680" cy="302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4864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0"/>
          <p:cNvSpPr txBox="1"/>
          <p:nvPr/>
        </p:nvSpPr>
        <p:spPr>
          <a:xfrm>
            <a:off x="1828800" y="45720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et's Try Again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553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198108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ou need me before you can mail a letter. Paste me on an envelo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r Turn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21932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 rot="20840400">
            <a:off x="1066680" y="327636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need a postman, an envelope, and a stamp to mail a l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 rot="6600">
            <a:off x="6095880" y="32763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Only one of these would be pasted onto an envelop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C:\Documents and Settings\Melissa  Caro\Application Data\Microsoft\Media Catalog\Downloaded Clips\cl0\bs00737_.wmf"/>
          <p:cNvPicPr/>
          <p:nvPr/>
        </p:nvPicPr>
        <p:blipFill>
          <a:blip r:embed="rId1"/>
          <a:stretch/>
        </p:blipFill>
        <p:spPr>
          <a:xfrm>
            <a:off x="3581280" y="2209680"/>
            <a:ext cx="24717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167652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 am white.  You need me every day.  You drink me when you are thirsty.  I can make a moust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nd Again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1932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1066680" y="30481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Lots of things are whi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6248520" y="3048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need a lot of th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143000" y="39625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is white and you drin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029200" y="41148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AND, It makes a moustach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12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30" name="Picture 6" descr="http://www.thisevilempire.com/photos/jonahmilkm.jpg"/>
          <p:cNvPicPr/>
          <p:nvPr/>
        </p:nvPicPr>
        <p:blipFill>
          <a:blip r:embed="rId4"/>
          <a:stretch/>
        </p:blipFill>
        <p:spPr>
          <a:xfrm>
            <a:off x="1905120" y="1828800"/>
            <a:ext cx="5790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95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09480" y="1752480"/>
            <a:ext cx="81536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I look like a bab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You can give me a na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Children like to play with 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 are AWESOME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4300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14400" y="1752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looks like a bab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400800" y="1905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Dolls?  Pictures? Hm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990720" y="38862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can name dolls, not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00800" y="36576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Children play with dolls, not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39" name="Picture 10" descr="C:\Documents and Settings\Melissa  Caro\Application Data\Microsoft\Media Catalog\Downloaded Clips\cl46\j0175479.jpg"/>
          <p:cNvPicPr/>
          <p:nvPr/>
        </p:nvPicPr>
        <p:blipFill>
          <a:blip r:embed="rId1"/>
          <a:stretch/>
        </p:blipFill>
        <p:spPr>
          <a:xfrm>
            <a:off x="3048120" y="1447920"/>
            <a:ext cx="3360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h_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90720" y="1600200"/>
            <a:ext cx="73911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I grow on an ear.  Cook me in hot oil.  I will puff up and taste good.  Some people microwave me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st Time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914400" y="30481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grows on an ear?  Ear wax?  Earrings?  Corn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0080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wouldn’t cook or taste ear wax or earr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133720" y="42670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corn will puff up and it is sometimes cooked in the microwav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WordArt 8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47" name="Picture 10" descr="C:\Documents and Settings\Melissa  Caro\Application Data\Microsoft\Media Catalog\Downloaded Clips\cl64\j0250766.wmf"/>
          <p:cNvPicPr/>
          <p:nvPr/>
        </p:nvPicPr>
        <p:blipFill>
          <a:blip r:embed="rId1"/>
          <a:stretch/>
        </p:blipFill>
        <p:spPr>
          <a:xfrm>
            <a:off x="2286000" y="838080"/>
            <a:ext cx="5146560" cy="6019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69343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3"/>
          <a:stretch/>
        </p:blipFill>
        <p:spPr>
          <a:xfrm>
            <a:off x="6629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40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408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40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Melissa  Caro\Application Data\Microsoft\Media Catalog\Downloaded Clips\cl3e\j0156953.wmf"/>
          <p:cNvPicPr/>
          <p:nvPr/>
        </p:nvPicPr>
        <p:blipFill>
          <a:blip r:embed="rId1"/>
          <a:stretch/>
        </p:blipFill>
        <p:spPr>
          <a:xfrm>
            <a:off x="1523880" y="1219320"/>
            <a:ext cx="655344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his_is_the_end_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2:44:37Z</dcterms:created>
  <dc:creator>Melissa Caro</dc:creator>
  <dc:description/>
  <dc:language>en-US</dc:language>
  <cp:lastModifiedBy>127ramirezc</cp:lastModifiedBy>
  <dcterms:modified xsi:type="dcterms:W3CDTF">2012-01-23T16:06:00Z</dcterms:modified>
  <cp:revision>19</cp:revision>
  <dc:subject/>
  <dc:title>PowerPoint Presentation</dc:title>
</cp:coreProperties>
</file>